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80B4-5158-41FA-A693-841FF770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F52A-B331-4010-A278-E8A6B90A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F87F-AEA2-48D7-9A3F-28405430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B15F-6653-4C51-9FD6-73701C31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F1A-7DB4-4D1C-B0DC-94B97E54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78A-D2E9-44F3-B7AF-D9A2FAC1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191-4878-444D-AAEE-2B609919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861-36E1-4EBE-9E0F-8130235E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BF8-408C-448A-8E96-016EAD27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D8E-7E91-48A0-9E66-72B861EC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876-ED42-4500-9F5F-CED642DC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C89C-4F0B-4E42-8FE6-E736AA98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6D8E-08B2-4CC1-B362-6963ED50D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4120" y="1752480"/>
            <a:ext cx="259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There was a little guy with two different color f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5:13:32Z</dcterms:created>
  <dc:creator>Patrick Mooney</dc:creator>
  <dc:description/>
  <dc:language>en-US</dc:language>
  <cp:lastModifiedBy>Patrick Mooney</cp:lastModifiedBy>
  <dcterms:modified xsi:type="dcterms:W3CDTF">2009-02-12T15:19:38Z</dcterms:modified>
  <cp:revision>2</cp:revision>
  <dc:subject/>
  <dc:title>Slide 1</dc:title>
</cp:coreProperties>
</file>